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5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047C-9527-4DA9-BE4B-972EFDF29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52E-82D7-41D3-9542-CFB95B79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921A-DBAB-4F86-AB9B-C4273CBBA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A158-56E5-426F-90F9-0E1A74DE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DC78-05EA-49CC-800D-8C1FFE3B0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F6D1-2E81-4E97-9DAF-0EEB907D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7E5F-3301-45BE-9AA5-CA85FB68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0BF0-03B6-49A9-A08A-A1ECCB37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2B49-A4BD-400C-A43F-FC4D77A7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777E5-2A61-40FD-9563-070433FF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1A60-595E-4359-9B99-07F17409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98F2-AF62-4AF4-91EA-C957ABA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3318-E253-46FD-95C7-6DF771DC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AF7CE-4062-42CE-AD1F-9EFE8A8BE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566DC-3C65-43DE-A3CD-74391A64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A865-3046-426D-8AF6-E5784FE0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686D-E2CB-4DE3-8CD4-9756A72CB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E9A3-6420-43C4-BD84-E11098C5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491-9242-48DC-B63D-FE9B09D2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BD8-4DAD-4A3E-8750-F00A5465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C5E7-E016-4747-A517-8B2F375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1034-38F0-4E3D-9C2D-17DE005D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0E6-195F-4C49-B013-8742B17F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20B7-F239-4923-AE14-F77A3B19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D887-7508-451A-A205-A4B303989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E9D5-49AD-4A74-BE5F-9B9E3739CD4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4000" y="1916280"/>
            <a:ext cx="496872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4788000" y="5373720"/>
            <a:ext cx="42116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данова Ири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Верх-Жилинская О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тайский край Косих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Схема 1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7777080" cy="5832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3850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Роль силы трения</a:t>
            </a:r>
            <a:br>
              <a:rPr sz="5400"/>
            </a:br>
            <a:r>
              <a:rPr b="0" lang="en-US" sz="5400" spc="-1" strike="noStrike">
                <a:solidFill>
                  <a:srgbClr val="c00000"/>
                </a:solidFill>
                <a:latin typeface="Arial"/>
              </a:rPr>
              <a:t> при ходьб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3" descr="4d40f1a140561141a1e63b5bd0422b77.jpg.jpg"/>
          <p:cNvPicPr/>
          <p:nvPr/>
        </p:nvPicPr>
        <p:blipFill>
          <a:blip r:embed="rId2"/>
          <a:stretch/>
        </p:blipFill>
        <p:spPr>
          <a:xfrm>
            <a:off x="5435640" y="1341360"/>
            <a:ext cx="2747880" cy="365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979640" y="5157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лагодаря трению вьющиеся растения цепляются за находящиеся поблизости опоры, удерживаются и тянутся к св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6" descr="горох2.jpg"/>
          <p:cNvPicPr/>
          <p:nvPr/>
        </p:nvPicPr>
        <p:blipFill>
          <a:blip r:embed="rId3"/>
          <a:stretch/>
        </p:blipFill>
        <p:spPr>
          <a:xfrm>
            <a:off x="971640" y="1844640"/>
            <a:ext cx="3867120" cy="2552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7459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2" descr="19235022.jpg"/>
          <p:cNvPicPr/>
          <p:nvPr/>
        </p:nvPicPr>
        <p:blipFill>
          <a:blip r:embed="rId2"/>
          <a:stretch/>
        </p:blipFill>
        <p:spPr>
          <a:xfrm>
            <a:off x="755640" y="1413000"/>
            <a:ext cx="359712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3" descr="morkovv.jpg"/>
          <p:cNvPicPr/>
          <p:nvPr/>
        </p:nvPicPr>
        <p:blipFill>
          <a:blip r:embed="rId3"/>
          <a:stretch/>
        </p:blipFill>
        <p:spPr>
          <a:xfrm>
            <a:off x="4859280" y="1341360"/>
            <a:ext cx="3319560" cy="40147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"/>
          <p:cNvSpPr/>
          <p:nvPr/>
        </p:nvSpPr>
        <p:spPr>
          <a:xfrm>
            <a:off x="1619280" y="547380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ла трения о грунт корнеплодов способствует удержанию растения в поч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47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раст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2" descr="ArctiumLappa3.jpg"/>
          <p:cNvPicPr/>
          <p:nvPr/>
        </p:nvPicPr>
        <p:blipFill>
          <a:blip r:embed="rId2"/>
          <a:stretch/>
        </p:blipFill>
        <p:spPr>
          <a:xfrm>
            <a:off x="762120" y="1413000"/>
            <a:ext cx="3608280" cy="2952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"/>
          <p:cNvSpPr/>
          <p:nvPr/>
        </p:nvSpPr>
        <p:spPr>
          <a:xfrm>
            <a:off x="4643280" y="1645560"/>
            <a:ext cx="450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им растениям, как репейник, трение помогает распространять семена, имеющие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ючк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с небольшими крючками на конц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верх 6"/>
          <p:cNvSpPr/>
          <p:nvPr/>
        </p:nvSpPr>
        <p:spPr>
          <a:xfrm>
            <a:off x="3780000" y="2492280"/>
            <a:ext cx="215640" cy="3313080"/>
          </a:xfrm>
          <a:prstGeom prst="upArrow">
            <a:avLst>
              <a:gd name="adj1" fmla="val 50000"/>
              <a:gd name="adj2" fmla="val 5007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132000" y="587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лю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у живот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2" descr="180282_384648.jpg"/>
          <p:cNvPicPr/>
          <p:nvPr/>
        </p:nvPicPr>
        <p:blipFill>
          <a:blip r:embed="rId2"/>
          <a:stretch/>
        </p:blipFill>
        <p:spPr>
          <a:xfrm>
            <a:off x="324000" y="1268280"/>
            <a:ext cx="4259160" cy="310860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3" descr="Zwierzeta_7_1280x720_1245.jpg"/>
          <p:cNvPicPr/>
          <p:nvPr/>
        </p:nvPicPr>
        <p:blipFill>
          <a:blip r:embed="rId3"/>
          <a:stretch/>
        </p:blipFill>
        <p:spPr>
          <a:xfrm>
            <a:off x="3995640" y="2349360"/>
            <a:ext cx="4316400" cy="2427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4"/>
          <p:cNvSpPr/>
          <p:nvPr/>
        </p:nvSpPr>
        <p:spPr>
          <a:xfrm>
            <a:off x="1908000" y="5084640"/>
            <a:ext cx="66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йствие органов хватания у животных (конечности, хобот слона ) связано с трением. Предмет тем прочнее будет схвачен, чем больше сила трения между органом хватания и предм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Сила трения в техни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2" descr="механизм.jpeg"/>
          <p:cNvPicPr/>
          <p:nvPr/>
        </p:nvPicPr>
        <p:blipFill>
          <a:blip r:embed="rId2"/>
          <a:stretch/>
        </p:blipFill>
        <p:spPr>
          <a:xfrm>
            <a:off x="250920" y="1052640"/>
            <a:ext cx="4208400" cy="315900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3" descr="двигатель авто.jpg"/>
          <p:cNvPicPr/>
          <p:nvPr/>
        </p:nvPicPr>
        <p:blipFill>
          <a:blip r:embed="rId3"/>
          <a:stretch/>
        </p:blipFill>
        <p:spPr>
          <a:xfrm>
            <a:off x="4248000" y="1630440"/>
            <a:ext cx="4705560" cy="352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1476360" y="5157720"/>
            <a:ext cx="554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 всех машинах из-за трения нагреваются и изнашиваются движущиеся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35280" y="-360"/>
            <a:ext cx="534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Arial"/>
              </a:rPr>
              <a:t>Подшипник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2" descr="шариковый подшипник.jpg"/>
          <p:cNvPicPr/>
          <p:nvPr/>
        </p:nvPicPr>
        <p:blipFill>
          <a:blip r:embed="rId2"/>
          <a:stretch/>
        </p:blipFill>
        <p:spPr>
          <a:xfrm>
            <a:off x="576360" y="762120"/>
            <a:ext cx="2158920" cy="32544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1727280" y="519444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Вкладыш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деталь подшипника, непосредственно соприкасающаяся с в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трелка вверх 4"/>
          <p:cNvSpPr/>
          <p:nvPr/>
        </p:nvSpPr>
        <p:spPr>
          <a:xfrm>
            <a:off x="1619280" y="3213000"/>
            <a:ext cx="73080" cy="2016360"/>
          </a:xfrm>
          <a:prstGeom prst="upArrow">
            <a:avLst>
              <a:gd name="adj1" fmla="val 50000"/>
              <a:gd name="adj2" fmla="val 4994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4067280" y="126828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шипники помогают уменьшит силу трения в десятки раз за счет замены трения качения трением сколь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6" descr="1329957657_9.jpg"/>
          <p:cNvPicPr/>
          <p:nvPr/>
        </p:nvPicPr>
        <p:blipFill>
          <a:blip r:embed="rId3"/>
          <a:stretch/>
        </p:blipFill>
        <p:spPr>
          <a:xfrm>
            <a:off x="6443640" y="3573360"/>
            <a:ext cx="2160720" cy="29131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3419640" y="357336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ар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8"/>
          <p:cNvSpPr/>
          <p:nvPr/>
        </p:nvSpPr>
        <p:spPr>
          <a:xfrm>
            <a:off x="3419640" y="472428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оликовый подши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Двойная стрелка влево/вправо 9"/>
          <p:cNvSpPr/>
          <p:nvPr/>
        </p:nvSpPr>
        <p:spPr>
          <a:xfrm>
            <a:off x="2700360" y="3716280"/>
            <a:ext cx="719280" cy="73080"/>
          </a:xfrm>
          <a:prstGeom prst="left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Двойная стрелка влево/вправо 11"/>
          <p:cNvSpPr/>
          <p:nvPr/>
        </p:nvSpPr>
        <p:spPr>
          <a:xfrm>
            <a:off x="6156360" y="4869000"/>
            <a:ext cx="1079640" cy="144360"/>
          </a:xfrm>
          <a:prstGeom prst="leftRightArrow">
            <a:avLst>
              <a:gd name="adj1" fmla="val 50000"/>
              <a:gd name="adj2" fmla="val 5003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закрепл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03280" y="1267920"/>
            <a:ext cx="72835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чего смычок перед игрой натирают канифолью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медицинские иглы полирую до зеркального блеска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полировка и шлифовка соприкасающихся деталей уменьшает силу трения? Будет ли уменьшена сила трения, если поверхности деталей отполировать идеальн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С какой целью швейные иголки полируют до блеска? Удобно ли шить заржавленной иголк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вагоне поезда на столике лежат книга и мяч. Поезд тронулся с места. Что при этом произойдет с мячом и книгой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гоночных велосипедов руль низко опущен. Почему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очему живую рыбу трудно держать в руках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пользуемые материал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58920" y="1341360"/>
            <a:ext cx="734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kn.sobaka.ru/n35/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det-mash.ru/index.php?file=pod_kachen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fotodnya.net/fashion/kartinki-treniy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octitesolutions.com/index.php?FOLDERID=294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home-edu.ru/user/f/00001491/Les_18N/Htm_18/Les18_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s://www.youtube.com/watch?v=TISWVsXINFo&amp;feature=re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080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fppt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73"/>
                </a:solidFill>
                <a:latin typeface="Arial"/>
              </a:rPr>
              <a:t>Цель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280" y="2133720"/>
            <a:ext cx="74674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знакомить учащихся с силой трения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Показать роль силы трения в природе  и технике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C:\Users\Вера\AppData\Local\Microsoft\Windows\Temporary Internet Files\Content.IE5\6JNNS02V\MC900435839[1].wmf"/>
          <p:cNvPicPr/>
          <p:nvPr/>
        </p:nvPicPr>
        <p:blipFill>
          <a:blip r:embed="rId2"/>
          <a:stretch/>
        </p:blipFill>
        <p:spPr>
          <a:xfrm>
            <a:off x="468360" y="620640"/>
            <a:ext cx="3527280" cy="35290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2"/>
          <p:cNvSpPr/>
          <p:nvPr/>
        </p:nvSpPr>
        <p:spPr>
          <a:xfrm>
            <a:off x="4427640" y="1844640"/>
            <a:ext cx="403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нки, скатившись с горы, через некоторое время останавливаются. Это значит, что на тело действовала сила. При соприкосновении одного тела с другим возникает взаимодействие, которое называют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тр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1763640" y="404640"/>
            <a:ext cx="5688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ила, возникающая при взаимодействии поверхности одного тела с поверхностью другого, когда тела неподвижны или перемещаются относительно друг друга, называ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96840" y="4572000"/>
            <a:ext cx="8881920" cy="1749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684360" y="333360"/>
            <a:ext cx="77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73"/>
                </a:solidFill>
                <a:latin typeface="Arial"/>
              </a:rPr>
              <a:t>Причина возникновения силы тр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surface_irregular_s.jpg"/>
          <p:cNvPicPr/>
          <p:nvPr/>
        </p:nvPicPr>
        <p:blipFill>
          <a:blip r:embed="rId2"/>
          <a:stretch/>
        </p:blipFill>
        <p:spPr>
          <a:xfrm>
            <a:off x="1042920" y="1916280"/>
            <a:ext cx="2737080" cy="2052360"/>
          </a:xfrm>
          <a:prstGeom prst="rect">
            <a:avLst/>
          </a:prstGeom>
          <a:ln w="0">
            <a:noFill/>
          </a:ln>
        </p:spPr>
      </p:pic>
      <p:sp>
        <p:nvSpPr>
          <p:cNvPr id="92" name="TextBox 7"/>
          <p:cNvSpPr/>
          <p:nvPr/>
        </p:nvSpPr>
        <p:spPr>
          <a:xfrm>
            <a:off x="1490760" y="428472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еровность поверх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8" descr="prichina2.jpg"/>
          <p:cNvPicPr/>
          <p:nvPr/>
        </p:nvPicPr>
        <p:blipFill>
          <a:blip r:embed="rId3"/>
          <a:stretch/>
        </p:blipFill>
        <p:spPr>
          <a:xfrm>
            <a:off x="4859280" y="2060640"/>
            <a:ext cx="3465720" cy="1800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9"/>
          <p:cNvSpPr/>
          <p:nvPr/>
        </p:nvSpPr>
        <p:spPr>
          <a:xfrm>
            <a:off x="4427640" y="4365720"/>
            <a:ext cx="43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тя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леку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"/>
          <p:cNvSpPr/>
          <p:nvPr/>
        </p:nvSpPr>
        <p:spPr>
          <a:xfrm>
            <a:off x="324000" y="2421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ка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1763640" y="414972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скольж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4"/>
          <p:cNvSpPr/>
          <p:nvPr/>
        </p:nvSpPr>
        <p:spPr>
          <a:xfrm>
            <a:off x="4932360" y="2421000"/>
            <a:ext cx="35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рение поко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Прямоугольник 5" descr=""/>
          <p:cNvPicPr/>
          <p:nvPr/>
        </p:nvPicPr>
        <p:blipFill>
          <a:blip r:embed="rId2"/>
          <a:stretch/>
        </p:blipFill>
        <p:spPr>
          <a:xfrm>
            <a:off x="1395360" y="665280"/>
            <a:ext cx="6767640" cy="1455480"/>
          </a:xfrm>
          <a:prstGeom prst="rect">
            <a:avLst/>
          </a:prstGeom>
          <a:ln w="0">
            <a:noFill/>
          </a:ln>
        </p:spPr>
      </p:pic>
      <p:sp>
        <p:nvSpPr>
          <p:cNvPr id="99" name="Стрелка вниз 6"/>
          <p:cNvSpPr/>
          <p:nvPr/>
        </p:nvSpPr>
        <p:spPr>
          <a:xfrm>
            <a:off x="2771640" y="1700280"/>
            <a:ext cx="287640" cy="64908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трелка вниз 7"/>
          <p:cNvSpPr/>
          <p:nvPr/>
        </p:nvSpPr>
        <p:spPr>
          <a:xfrm>
            <a:off x="6156360" y="1628640"/>
            <a:ext cx="287280" cy="720720"/>
          </a:xfrm>
          <a:prstGeom prst="downArrow">
            <a:avLst>
              <a:gd name="adj1" fmla="val 50000"/>
              <a:gd name="adj2" fmla="val 5001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трелка вниз 8"/>
          <p:cNvSpPr/>
          <p:nvPr/>
        </p:nvSpPr>
        <p:spPr>
          <a:xfrm>
            <a:off x="4500720" y="1773360"/>
            <a:ext cx="287280" cy="2232000"/>
          </a:xfrm>
          <a:prstGeom prst="downArrow">
            <a:avLst>
              <a:gd name="adj1" fmla="val 50000"/>
              <a:gd name="adj2" fmla="val 4999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скольж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2" descr="лыжник.jpg"/>
          <p:cNvPicPr/>
          <p:nvPr/>
        </p:nvPicPr>
        <p:blipFill>
          <a:blip r:embed="rId2"/>
          <a:stretch/>
        </p:blipFill>
        <p:spPr>
          <a:xfrm>
            <a:off x="1568520" y="1603440"/>
            <a:ext cx="3235320" cy="3481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5508720" y="1628640"/>
            <a:ext cx="309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скользит по поверхности другого, то возникающую силу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сколь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кач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5364000" y="1484280"/>
            <a:ext cx="3240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сли тело катится по поверхности другого, то силу возникающую при этом называют </a:t>
            </a: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силой трения ка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4" descr="03-07.gif"/>
          <p:cNvPicPr/>
          <p:nvPr/>
        </p:nvPicPr>
        <p:blipFill>
          <a:blip r:embed="rId2"/>
          <a:srcRect l="12784" t="1795" r="0" b="0"/>
          <a:stretch/>
        </p:blipFill>
        <p:spPr>
          <a:xfrm>
            <a:off x="1403280" y="1484280"/>
            <a:ext cx="375120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ила трения поко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2" descr="45602132.jpg"/>
          <p:cNvPicPr/>
          <p:nvPr/>
        </p:nvPicPr>
        <p:blipFill>
          <a:blip r:embed="rId2"/>
          <a:stretch/>
        </p:blipFill>
        <p:spPr>
          <a:xfrm>
            <a:off x="1187280" y="1484280"/>
            <a:ext cx="3333960" cy="27241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5292720" y="1773360"/>
            <a:ext cx="2951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попытке сдвинуть тело с места, оно не сразу изменит свою скорость, так как действующая на тело сила уравновешивается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силой трения поко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7:44:30Z</dcterms:created>
  <dc:creator/>
  <dc:description/>
  <dc:language>en-US</dc:language>
  <cp:lastModifiedBy>Мама</cp:lastModifiedBy>
  <dcterms:modified xsi:type="dcterms:W3CDTF">2013-07-29T11:06:46Z</dcterms:modified>
  <cp:revision>47</cp:revision>
  <dc:subject/>
  <dc:title>Сила трения</dc:title>
</cp:coreProperties>
</file>